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EE3-B648-4860-9DCF-9DFB5DE9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F38C-CC8A-47E6-884A-D72851FCDE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124-6A3C-42BE-BB1B-E06EBA4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FCD-A566-4900-93FC-143EC71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D57-133E-4629-87EA-5BEBD130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631-6DAA-4062-B224-FE02920E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867-2448-48F9-9B1D-FDA4CAE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ED1-17F1-4955-8D26-0EF2B6B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7B6-10CF-4459-88A5-63B5748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020-B328-42BB-840E-F4694AF8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221-92E7-4876-B63C-41E8F631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CA9-5E97-4CEB-8EC7-516BE5F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377-7049-4A17-A0E7-C17F9D0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C82-9919-449C-80C4-04663EA6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7C2-3DFE-4732-BE61-7D883FD41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8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3280" y="1143000"/>
            <a:ext cx="144324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236000" y="304920"/>
            <a:ext cx="176832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05120" y="297180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419720"/>
            <a:ext cx="8991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that dimension requirements have been met and test that fishing is possible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STEP 1 ON YOUR PROJECT WORKSH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749" t="17001" r="13749" b="11002"/>
          <a:stretch/>
        </p:blipFill>
        <p:spPr>
          <a:xfrm>
            <a:off x="457200" y="5335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FD 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sm &amp; Static Electricity ActivInspire Flip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opposite magnetic poles are brought toward each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3D4FD950-A273-4CF8-9310-6E0F57FB4B20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fine and describe magnetism, magnetic poles, fields, and domain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fine static electricity and explain how electric charges interact with each oth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sm &amp; Static Electricity K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440" y="1704960"/>
            <a:ext cx="8686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agnet Fishing Derby Step 2 – DUE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if the magnets in the diagram below are pushed toward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152424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43800" y="1676520"/>
            <a:ext cx="1447920" cy="579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attract toward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repel away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not attract or re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19810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959520" y="1981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7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9:11:56Z</dcterms:created>
  <dc:creator>CCPS</dc:creator>
  <dc:description/>
  <dc:language>en-US</dc:language>
  <cp:lastModifiedBy>CCPS</cp:lastModifiedBy>
  <dcterms:modified xsi:type="dcterms:W3CDTF">2010-03-08T19:12:26Z</dcterms:modified>
  <cp:revision>2</cp:revision>
  <dc:subject/>
  <dc:title>Slide 1</dc:title>
</cp:coreProperties>
</file>